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BEE-76D5-40E2-9283-086EBF2D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4CA-1234-4569-8D24-2B0420B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B3F-0515-4891-9D73-95811DE3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EBB-580D-461E-8A75-F9B712B2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D3D-17BA-405C-AD5C-5A412A8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C23-1B82-4558-8E52-E2283E8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035-065F-4B02-9E16-AD05203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B9D-5578-4269-B69B-46C84E3F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736-609F-466A-B541-79779CDB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83B-167A-4B8E-AC67-08E4CFF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5CC-64FC-4F11-8D29-59DC9656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F74-F5AD-4483-8836-4665E54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00B-37DF-4595-8EA6-E778F53EB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120" y="1600200"/>
            <a:ext cx="424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487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78483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84872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784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84872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78487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0" y="57913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625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07Z</dcterms:modified>
  <cp:revision>211</cp:revision>
  <dc:subject/>
  <dc:title>Slide 1</dc:title>
</cp:coreProperties>
</file>